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59.png" ContentType="image/png"/>
  <Override PartName="/ppt/media/image3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5.png" ContentType="image/png"/>
  <Override PartName="/ppt/media/image43.jpeg" ContentType="image/jpeg"/>
  <Override PartName="/ppt/media/image42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5.png" ContentType="image/png"/>
  <Override PartName="/ppt/media/image45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30.jpeg" ContentType="image/jpeg"/>
  <Override PartName="/ppt/media/image49.jpeg" ContentType="image/jpeg"/>
  <Override PartName="/ppt/media/image2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51.png" ContentType="image/png"/>
  <Override PartName="/ppt/media/image53.png" ContentType="image/png"/>
  <Override PartName="/ppt/media/image58.jpeg" ContentType="image/jpeg"/>
  <Override PartName="/ppt/media/image56.jpeg" ContentType="image/jpeg"/>
  <Override PartName="/ppt/media/image46.jpeg" ContentType="image/jpeg"/>
  <Override PartName="/ppt/media/image41.jpeg" ContentType="image/jpeg"/>
  <Override PartName="/ppt/media/image54.png" ContentType="image/png"/>
  <Override PartName="/ppt/media/image57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8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281-B840-4D8C-98D8-5911C125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730-5373-4615-A414-FF9BB27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60F-DAE7-4A3F-9EF6-C6164BF6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422-79D8-48CB-BE60-7FF982A6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F3B3-FD85-4698-B973-3F368515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38D-6228-4270-A39A-5EC2D4D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BBFF-1811-44FC-96FB-CA24541E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34E4-6D5E-4F06-9C3B-3A7D802C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4683-31B2-43E0-956F-35F6CC1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3B9-C0AC-4E51-9F66-3CB995A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73A4-2BF8-4712-8179-FBC06CC0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AF7-3A35-4FD0-970F-80E95E9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609-12FC-4070-849E-7505C35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9FD2-E714-4F06-89A8-42979DB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6A39-718D-4F54-B451-EDD9376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62C4-B69B-4BE7-AD77-AD3A1ABB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77DA-D297-4B16-9955-173DD396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3772-7451-4C0C-BFBF-B44774F4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9A99-BD61-4F9A-8563-F863537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BF85-34A5-49C8-90F6-EEE4C91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1E60-6A3A-4800-A40C-D7174E70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0B32-7CDE-40BC-B27B-F48A23C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4C2-9995-42D0-AEC8-5A039C8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9FCA-B103-4B97-8C3E-EF709661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922A-62F9-4322-B0A8-8AE195D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1E52-1EE3-403F-BCE3-93F501E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35A7-10D4-4247-977B-00AEFDD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154B-FB41-42A6-8B36-97037528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4AD5-14B7-4D85-AC6B-33AF006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283F-EE5C-4E91-90B9-E79612FF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578-7BD3-4D62-B9CF-377FE3F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651-348A-49F1-A7DF-D9D904CB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963-9BF4-40DD-AEEA-9BFE1818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584-BE2F-4445-ADB7-EE2A7CCF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BCB-25B1-4F9B-A731-3516FD44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CE2-91FD-4C4C-A240-8545016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a cura di 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5F9-D4BA-4F86-A25B-A4627F1DD0F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158D-19C1-45B8-A148-8C2F9E5D66E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388-5BF6-488D-B773-85D1AA968BD8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oogle.it/url?url=http://www.zeromag.eu/sito/articolo.php%3Fid%3D2005&amp;rct=j&amp;frm=1&amp;q=&amp;esrc=s&amp;sa=U&amp;ved=0ahUKEwis4auH2vDOAhUJqxoKHckHCUAQwW4IKjAK&amp;usg=AFQjCNEm9kfUpfILVSAOYiG84Cw5B1XJ_A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s://www.google.it/url?url=https://it.wikipedia.org/wiki/Provincia_autonoma_di_Trento&amp;rct=j&amp;frm=1&amp;q=&amp;esrc=s&amp;sa=U&amp;ved=0ahUKEwioiPbU2vDOAhVQahoKHdkKBP4QwW4IMDAN&amp;usg=AFQjCNE1nYtYJdXXfbl_CaY1xXBmHsBbow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s://www.google.it/url?url=https://didattica.polito.it/laurea_magistrale/nanotecnologie/it/percorso_internazionale&amp;rct=j&amp;frm=1&amp;q=&amp;esrc=s&amp;sa=U&amp;ved=0ahUKEwjLkN_12_DOAhXNSxoKHSwLDRkQwW4IHDAD&amp;usg=AFQjCNH0LSKZYfBERny9qZ4eIeeL9sFygw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www.google.it/url?url=http://www.giulianovanews.it/2011/09/giulianova-avvicinare-le-due-sponde-delladriatico-con-collegamenti-veloci-a-basso-costo-ed-a-limitatissimo-impatto-ambientale/ente-porto-con-le-bandiere-dei-partners/&amp;rct=j&amp;frm=1&amp;q=&amp;esrc=s&amp;sa=U&amp;ved=0ahUKEwj2sIez3PDOAhXIPBoKHYU1AxMQwW4IFjAA&amp;usg=AFQjCNE7HxVowOaBAwwbDFvmwz8j8C6c5w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ressline.it/?page_id=75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emambiente.it/termini/lastre-vetro/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essline.it/?page_id=7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https://www.google.it/imgres?imgurl&amp;imgrefurl=http%3A%2F%2Fwww.vip.it%2Fsvizzera-nasce-il-partito-contro-le-diapositive-ed-il-power-point%2Friunione-aziendale%2F&amp;h=0&amp;w=0&amp;tbnid=d-lD2kdfaYcb6M&amp;zoom=1&amp;tbnh=195&amp;tbnw=258&amp;docid=XgcSJDc8vifEOM&amp;tbm=isch&amp;ei=H5CHU5LVGca0PPmXgZgL&amp;ved=0CAUQsCUoAQ" TargetMode="Externa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google.it/url?url=http://confartigianato.verona.it/associazione/statuto.html&amp;rct=j&amp;frm=1&amp;q=&amp;esrc=s&amp;sa=U&amp;ved=0ahUKEwjF4pn92crOAhXILhoKHdurAekQwW4IGDAB&amp;usg=AFQjCNHfIqfPG9Lv3vMka-i2FxP4T6GEzg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s://www.google.it/url?url=https://it.wikipedia.org/wiki/Regione_(Italia)&amp;rct=j&amp;frm=1&amp;q=&amp;esrc=s&amp;sa=U&amp;ved=0ahUKEwjt3sGL2srOAhVGORoKHVY7Ad0QwW4IGjAB&amp;usg=AFQjCNHzyq1ZN-E0iDjWuV3PDaduRHqBVQ" TargetMode="External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hyperlink" Target="http://www.google.it/url?url=http://oggiscuola.retenews24.it/iscrizione-on-line-come-iscrivere-i-figli-a-scuol/&amp;rct=j&amp;frm=1&amp;q=&amp;esrc=s&amp;sa=U&amp;ved=0ahUKEwj424Wf28rOAhXMzRoKHdemBIgQwW4IJDAH&amp;usg=AFQjCNFFA9O3E5dWUZWdFizzSb7OS6oEZQ" TargetMode="External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it/url?url=http://lnx.webhousemessina.com/webhouse/index.php%3Foption%3Dcom_content%26view%3Darticle%26id%3D19%26Itemid%3D46&amp;rct=j&amp;frm=1&amp;q=&amp;esrc=s&amp;sa=U&amp;ved=0ahUKEwiupYT-2srOAhWEJhoKHcdjCFAQwW4IIjAG&amp;usg=AFQjCNFOH_vic_78EYEcoCLDlGT6mLq8PA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google.it/url?url=http://www.ilgiornale.it/news/cronache/calendario-2016-pieno-ponti-1207794.html&amp;rct=j&amp;frm=1&amp;q=&amp;esrc=s&amp;sa=U&amp;ved=0ahUKEwjJosOO28rOAhVBnRoKHV_jAYAQwW4IIjAG&amp;usg=AFQjCNGCwnsEfb_pBphh0KTheW3ML3NLXw" TargetMode="External"/><Relationship Id="rId4" Type="http://schemas.openxmlformats.org/officeDocument/2006/relationships/image" Target="../media/image45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google.it/url?sa=i&amp;rct=j&amp;q=&amp;esrc=s&amp;source=images&amp;cd=&amp;cad=rja&amp;uact=8&amp;ved=&amp;url=http%3A%2F%2Fwww.corriereuniv.it%2Fcms%2F2011%2F12%2Fcambio-ai-vertici-del-miur%2F&amp;ei=aCs1VdeNNYr_7AalxoGADg&amp;bvm=bv.91071109,d.ZGU&amp;psig=AFQjCNF88ecfgml3PEU5-nWbAhCFhZ7bYw&amp;ust=1429634281334698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google.it/url?url=http://www.haccpservice.it/index.php/haccp-regionale/&amp;rct=j&amp;frm=1&amp;q=&amp;esrc=s&amp;sa=U&amp;ved=0ahUKEwjVqMmUqvjOAhUNrRQKHT1mAJo4PBDBbgggMAU&amp;usg=AFQjCNGLZhf_tTD4faaeF6UEJSTumtuqtA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google.it/url?url=http://www.unicamping.com/&amp;rct=j&amp;frm=1&amp;q=&amp;esrc=s&amp;sa=U&amp;ved=0ahUKEwjIwY-dqvjOAhWBkBQKHSYnBgAQwW4IIDAF&amp;usg=AFQjCNE27e-b6fUzzPH_aHeet6wjSRaSoQ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oogle.it/url?url=http://www.futuroquotidiano.com/universita-italiana/&amp;rct=j&amp;frm=1&amp;q=&amp;esrc=s&amp;sa=U&amp;ved=0ahUKEwjxq8rf2fDOAhWLDBoKHa9PDskQwW4IJjAI&amp;usg=AFQjCNGh_p6eT07vuekXfgzQ8_gDwWpYTQ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s://www.google.it/url?url=https://it.wikipedia.org/wiki/Valle_dei_Templi&amp;rct=j&amp;frm=1&amp;q=&amp;esrc=s&amp;sa=U&amp;ved=0ahUKEwiJhbym2vDOAhWE7hoKHVh3DOQQwW4IJjAH&amp;usg=AFQjCNF-i-SXQwGRUY9_9USihM7EAO1ZYQ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www.google.it/url?url=http://www.nannimagazine.it/notizie/cultura-e-spettacoli/spettacoli/musica/21/03/2011/napoli-i-quattro-elementi-tra-arte-e-musica/6904&amp;rct=j&amp;frm=1&amp;q=&amp;esrc=s&amp;sa=U&amp;ved=0ahUKEwir5qG12vDOAhUHuBoKHXdPC8gQwW4IHDAD&amp;usg=AFQjCNEzpBv2QtbDAFp9s7M2evMK0yQRr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s://www.google.it/url?url=https://altrimenti.wordpress.com/2011/09/29/scuole-piu-sicure-e-a-norma-a-montorio/&amp;rct=j&amp;frm=1&amp;q=&amp;esrc=s&amp;sa=U&amp;ved=0ahUKEwio86iO2_DOAhXJ0xoKHRlqAJgQwW4IGDAB&amp;usg=AFQjCNFQ1ug0_9Weg_jXFO1gY0ShYCn6OQ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google.it/url?url=http://www.corriereirpinia.it/default.php%3Fid%3D7%26art_id%3D4951&amp;rct=j&amp;frm=1&amp;q=&amp;esrc=s&amp;sa=U&amp;ved=0ahUKEwio86iO2_DOAhXJ0xoKHRlqAJgQwW4IKDAJ&amp;usg=AFQjCNHdxa9arjo6zXGYBde5ijx4CWt6AA" TargetMode="External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ttangolo 8"/>
          <p:cNvSpPr/>
          <p:nvPr/>
        </p:nvSpPr>
        <p:spPr>
          <a:xfrm>
            <a:off x="1547640" y="404640"/>
            <a:ext cx="6553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Palace Script MT"/>
                <a:ea typeface="Verdana"/>
              </a:rPr>
              <a:t>Ministero dell’Istruzione, dell’ Università e della Ricer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Ufficio Scolastico Regionale per la Camp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DIREZIONE  GENER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Immagine 9" descr=""/>
          <p:cNvPicPr/>
          <p:nvPr/>
        </p:nvPicPr>
        <p:blipFill>
          <a:blip r:embed="rId1"/>
          <a:stretch/>
        </p:blipFill>
        <p:spPr>
          <a:xfrm>
            <a:off x="3995640" y="44280"/>
            <a:ext cx="1008000" cy="93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7488360" cy="167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formazione14"/>
          <p:cNvPicPr/>
          <p:nvPr/>
        </p:nvPicPr>
        <p:blipFill>
          <a:blip r:embed="rId3"/>
          <a:stretch/>
        </p:blipFill>
        <p:spPr>
          <a:xfrm>
            <a:off x="-365572800" y="-471600"/>
            <a:ext cx="1486080" cy="99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formazione14"/>
          <p:cNvPicPr/>
          <p:nvPr/>
        </p:nvPicPr>
        <p:blipFill>
          <a:blip r:embed="rId4"/>
          <a:stretch/>
        </p:blipFill>
        <p:spPr>
          <a:xfrm>
            <a:off x="-365420160" y="-318960"/>
            <a:ext cx="14857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Immagine 2" descr=""/>
          <p:cNvPicPr/>
          <p:nvPr/>
        </p:nvPicPr>
        <p:blipFill>
          <a:blip r:embed="rId5"/>
          <a:stretch/>
        </p:blipFill>
        <p:spPr>
          <a:xfrm>
            <a:off x="3559320" y="3475080"/>
            <a:ext cx="2170080" cy="1249200"/>
          </a:xfrm>
          <a:prstGeom prst="rect">
            <a:avLst/>
          </a:prstGeom>
          <a:ln w="0">
            <a:noFill/>
          </a:ln>
        </p:spPr>
      </p:pic>
      <p:sp>
        <p:nvSpPr>
          <p:cNvPr id="129" name="Rettangolo arrotondato 11"/>
          <p:cNvSpPr/>
          <p:nvPr/>
        </p:nvSpPr>
        <p:spPr>
          <a:xfrm>
            <a:off x="1116000" y="2276640"/>
            <a:ext cx="6985080" cy="1512720"/>
          </a:xfrm>
          <a:prstGeom prst="roundRect">
            <a:avLst>
              <a:gd name="adj" fmla="val 16667"/>
            </a:avLst>
          </a:prstGeom>
          <a:solidFill>
            <a:srgbClr val="ccffff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DIRETTIVA MINISTERIALE N. 170/20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SORZI UNIVERSITARI E INTERUNIVERSITA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NTI CULTUR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rappresentano i paesi le cui lingue sono incluse nei curricoli scolastici italian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NTI PUBBLICI DI RICERC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MMINISTRAZIONI CENTRAL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pianificano iniziative e destinano risorse alla formazione del personale scolastico nella realizzazione dei propri fini istituziona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E4A-EC44-4865-93FB-9AEB97A96D9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Rettangolo 4" descr=""/>
          <p:cNvPicPr/>
          <p:nvPr/>
        </p:nvPicPr>
        <p:blipFill>
          <a:blip r:embed="rId1"/>
          <a:stretch/>
        </p:blipFill>
        <p:spPr>
          <a:xfrm>
            <a:off x="609480" y="396720"/>
            <a:ext cx="8137800" cy="962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Risultati immagini per universit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134136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Risultati immagini per palazzo amministrazion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5553000"/>
            <a:ext cx="1428840" cy="743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Risultati immagini per edificio enti ricerc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0000" y="3908520"/>
            <a:ext cx="1050840" cy="788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Risultati immagini per ente con bandier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16720" y="3068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2364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esso il Ministero è istituita l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iattaforma on-line di FORMAZIONE CONTINUA e di SVILUPPO PROFESSION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l’accreditamento, la qualificazione e il riconoscimento dei corsi dei soggetti che erogano la form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È possibile accedere alla piattaforma attraverso il  sito del MIUR – ISTRUZIONE, cliccando sul banner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1B6-844C-4462-BC53-2F70C041EC4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0200" cy="4380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2484360" y="5881680"/>
            <a:ext cx="190512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Rettangolo 7" descr=""/>
          <p:cNvPicPr/>
          <p:nvPr/>
        </p:nvPicPr>
        <p:blipFill>
          <a:blip r:embed="rId3"/>
          <a:stretch/>
        </p:blipFill>
        <p:spPr>
          <a:xfrm>
            <a:off x="1036800" y="291960"/>
            <a:ext cx="6632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C706-DA75-405E-AEC4-D5DC352BF562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http://www.pressline.it/wp-content/uploads/2015/06/analytics-1024x68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ttangolo 6"/>
          <p:cNvSpPr/>
          <p:nvPr/>
        </p:nvSpPr>
        <p:spPr>
          <a:xfrm>
            <a:off x="-36360" y="2276640"/>
            <a:ext cx="9324720" cy="2232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piattaforma digit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sente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gestire in maniera facile e veloc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utte le fasi del processo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ccreditamen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qualificazione, nonché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ttività forma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Rettangolo 7" descr=""/>
          <p:cNvPicPr/>
          <p:nvPr/>
        </p:nvPicPr>
        <p:blipFill>
          <a:blip r:embed="rId3"/>
          <a:stretch/>
        </p:blipFill>
        <p:spPr>
          <a:xfrm>
            <a:off x="285840" y="291960"/>
            <a:ext cx="838836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1F2-CB10-4D89-BC43-74C4F8B7C71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2" descr="http://www.cemambiente.it/wp-content/uploads/2014/05/lastre-ve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ttangolo 4"/>
          <p:cNvSpPr/>
          <p:nvPr/>
        </p:nvSpPr>
        <p:spPr>
          <a:xfrm>
            <a:off x="-36360" y="2276640"/>
            <a:ext cx="9324720" cy="2232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iattaform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stituisce una vetrina digit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facilita l’incontro tra domanda e offerta formativa, favorendo la trasparenza e snellendo le modalità di accreditamento e qualificazione e la fruizione dei percorsi formativ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8AC2-8F0D-49C3-A071-78D09AF9F0A9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2" descr="http://www.pressline.it/wp-content/uploads/2015/06/fibep-2014-2-27-14-small-1024x68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ttangolo 5"/>
          <p:cNvSpPr/>
          <p:nvPr/>
        </p:nvSpPr>
        <p:spPr>
          <a:xfrm>
            <a:off x="-36360" y="2276640"/>
            <a:ext cx="9180360" cy="2232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iattaforma è un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unto di accesso unic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attori che lavorano e oper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mondo della scuo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l’interno della piattaforma, il Ministero cura la tenuta e l’aggiornamento 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re distinti elench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3E17-8F8F-4EE0-BBD4-8934232F3D3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ttangolo arrotondato 4"/>
          <p:cNvSpPr/>
          <p:nvPr/>
        </p:nvSpPr>
        <p:spPr>
          <a:xfrm>
            <a:off x="539640" y="3213000"/>
            <a:ext cx="2448000" cy="22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Enti accreditati </a:t>
            </a: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che intendono offr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formazione al personale del compar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Scu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ttangolo arrotondato 5"/>
          <p:cNvSpPr/>
          <p:nvPr/>
        </p:nvSpPr>
        <p:spPr>
          <a:xfrm>
            <a:off x="3132000" y="3429000"/>
            <a:ext cx="2808360" cy="22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Associazioni disciplinari</a:t>
            </a: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, collegate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comunità scientifiche, e </a:t>
            </a: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Associ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professionali </a:t>
            </a: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del personale.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scola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riconosci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ttangolo arrotondato 6"/>
          <p:cNvSpPr/>
          <p:nvPr/>
        </p:nvSpPr>
        <p:spPr>
          <a:xfrm>
            <a:off x="6084720" y="3573360"/>
            <a:ext cx="2664000" cy="22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Singoli percorsi formativi </a:t>
            </a: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riconosciu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e validi ai fini dell’aggiornamento 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15968"/>
                </a:solidFill>
                <a:latin typeface="Calibri"/>
              </a:rPr>
              <a:t>personale scola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ttangolo 7"/>
          <p:cNvSpPr/>
          <p:nvPr/>
        </p:nvSpPr>
        <p:spPr>
          <a:xfrm>
            <a:off x="539640" y="2781360"/>
            <a:ext cx="244800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SOGGETTI ACCREDIT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ttangolo 8"/>
          <p:cNvSpPr/>
          <p:nvPr/>
        </p:nvSpPr>
        <p:spPr>
          <a:xfrm>
            <a:off x="3419640" y="2997360"/>
            <a:ext cx="2376360" cy="46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SOGGETTI QUALIFIC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ttangolo 9"/>
          <p:cNvSpPr/>
          <p:nvPr/>
        </p:nvSpPr>
        <p:spPr>
          <a:xfrm>
            <a:off x="6227640" y="3068640"/>
            <a:ext cx="2376720" cy="46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PERCORSI FORMATIVI RICONOSCIU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Rettangolo 11" descr=""/>
          <p:cNvPicPr/>
          <p:nvPr/>
        </p:nvPicPr>
        <p:blipFill>
          <a:blip r:embed="rId1"/>
          <a:stretch/>
        </p:blipFill>
        <p:spPr>
          <a:xfrm>
            <a:off x="1036800" y="291960"/>
            <a:ext cx="6632280" cy="107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0802_convegni"/>
          <p:cNvPicPr/>
          <p:nvPr/>
        </p:nvPicPr>
        <p:blipFill>
          <a:blip r:embed="rId2"/>
          <a:stretch/>
        </p:blipFill>
        <p:spPr>
          <a:xfrm>
            <a:off x="944640" y="5300640"/>
            <a:ext cx="1638360" cy="11336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207" name="Picture 6" descr="estate%202006%20grecia3%20049"/>
          <p:cNvPicPr/>
          <p:nvPr/>
        </p:nvPicPr>
        <p:blipFill>
          <a:blip r:embed="rId3"/>
          <a:stretch/>
        </p:blipFill>
        <p:spPr>
          <a:xfrm>
            <a:off x="3726000" y="5516640"/>
            <a:ext cx="1619280" cy="1152360"/>
          </a:xfrm>
          <a:prstGeom prst="rect">
            <a:avLst/>
          </a:prstGeom>
          <a:ln w="54000">
            <a:solidFill>
              <a:srgbClr val="99ccff"/>
            </a:solidFill>
            <a:miter/>
          </a:ln>
        </p:spPr>
      </p:pic>
      <p:pic>
        <p:nvPicPr>
          <p:cNvPr id="208" name="Picture 2" descr="https://encrypted-tbn3.gstatic.com/images?q=tbn:ANd9GcRE12sw25IubcbfMy_5p05FlaU48KnnV_6BIM44tGhXwbOueKzAtDPjHEP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78800" y="5805360"/>
            <a:ext cx="1276200" cy="884520"/>
          </a:xfrm>
          <a:prstGeom prst="rect">
            <a:avLst/>
          </a:prstGeom>
          <a:ln w="41400">
            <a:solidFill>
              <a:srgbClr val="00b0f0"/>
            </a:solidFill>
            <a:miter/>
          </a:ln>
        </p:spPr>
      </p:pic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li enti già accreditati e le associazioni già qualificate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prima del 2016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vo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eguarsi ai requisiti previsti nella Direttiva Ministeriale n.170/ 2016,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scrivendosi alla piattaforma on lin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fornendo la documentazione comprovante il possesso dei requisiti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ntro 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30 settembre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6CD-C14F-46E0-B072-32031D95B1C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Rettangolo 5" descr=""/>
          <p:cNvPicPr/>
          <p:nvPr/>
        </p:nvPicPr>
        <p:blipFill>
          <a:blip r:embed="rId1"/>
          <a:stretch/>
        </p:blipFill>
        <p:spPr>
          <a:xfrm>
            <a:off x="1036800" y="19080"/>
            <a:ext cx="6632280" cy="1071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li enti accreditati e le associazioni  qualificate nel cors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nel corso del 2016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vo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eguarsi ai requisiti previsti nella Direttiva Ministeriale n.170/2016,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scrivendosi alla piattaforma on lin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fornendo la documentazione comprovante il possesso dei requisiti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ntro 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31 gennaio 20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5D4-1F8A-45F4-BAF7-BDC91AA8E74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Rettangolo 5" descr=""/>
          <p:cNvPicPr/>
          <p:nvPr/>
        </p:nvPicPr>
        <p:blipFill>
          <a:blip r:embed="rId1"/>
          <a:stretch/>
        </p:blipFill>
        <p:spPr>
          <a:xfrm>
            <a:off x="1036800" y="19080"/>
            <a:ext cx="6632280" cy="1071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nuove richieste di accreditamento / qualificazione e riconoscimento di percorsi formativi  vanno inoltrate tramite la Piattaforma on line entro 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15 Ottobre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esito sarà pubblicato entro il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15 Luglio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AC5-5F82-41C1-A2B3-656E126607D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Rettangolo 4" descr=""/>
          <p:cNvPicPr/>
          <p:nvPr/>
        </p:nvPicPr>
        <p:blipFill>
          <a:blip r:embed="rId1"/>
          <a:stretch/>
        </p:blipFill>
        <p:spPr>
          <a:xfrm>
            <a:off x="1036800" y="19080"/>
            <a:ext cx="6632280" cy="107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ITF016056"/>
          <p:cNvPicPr/>
          <p:nvPr/>
        </p:nvPicPr>
        <p:blipFill>
          <a:blip r:embed="rId2"/>
          <a:stretch/>
        </p:blipFill>
        <p:spPr>
          <a:xfrm>
            <a:off x="3851280" y="1015920"/>
            <a:ext cx="13176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isporr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atto costitutiv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statuto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redatti per atto pubblico, in cui sia espressamente previs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scopo dell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formazione in almeno uno degli ambi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evisti dalla diretti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Avere realizzat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nel corso del triennio precedente al termine fissato per la presentazione della richiesta,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almeno 3 distinte iniziative formative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elative agli ambiti di cui si richiede l’accreditamento, ciascuna di durata pari ad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almeno 20 ore in almeno 3 Region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0CDA-9539-43D5-9808-B87014E36E0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Rettangolo 4" descr=""/>
          <p:cNvPicPr/>
          <p:nvPr/>
        </p:nvPicPr>
        <p:blipFill>
          <a:blip r:embed="rId1"/>
          <a:stretch/>
        </p:blipFill>
        <p:spPr>
          <a:xfrm>
            <a:off x="396720" y="36360"/>
            <a:ext cx="8350560" cy="134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Risultati immagini per statu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91080" y="2852640"/>
            <a:ext cx="167292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Risultati immagini per regioni d'ital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79960" y="515772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35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mbito di applic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inalit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zioni di accreditamento e qualific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riconoscimento dei cor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ffetti dell’accreditamento e della qualific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 soggetti già qualific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a piattafo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e funzioni della piattafor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li elenc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sposizioni transitor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e nuove richi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 principali requisiti per l’accreditamento e la qualific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a progett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li ambi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li attori coinvol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monitoragg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Rettangolo 9" descr=""/>
          <p:cNvPicPr/>
          <p:nvPr/>
        </p:nvPicPr>
        <p:blipFill>
          <a:blip r:embed="rId1"/>
          <a:stretch/>
        </p:blipFill>
        <p:spPr>
          <a:xfrm>
            <a:off x="895320" y="-133200"/>
            <a:ext cx="6627960" cy="1071360"/>
          </a:xfrm>
          <a:prstGeom prst="rect">
            <a:avLst/>
          </a:prstGeom>
          <a:ln w="0">
            <a:noFill/>
          </a:ln>
        </p:spPr>
      </p:pic>
      <p:sp>
        <p:nvSpPr>
          <p:cNvPr id="132" name="Segnaposto piè di pagina 12"/>
          <p:cNvSpPr/>
          <p:nvPr/>
        </p:nvSpPr>
        <p:spPr>
          <a:xfrm>
            <a:off x="6284880" y="6308640"/>
            <a:ext cx="2895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95959"/>
                </a:solidFill>
                <a:latin typeface="Tahoma"/>
              </a:rPr>
              <a:t>a cura di </a:t>
            </a:r>
            <a:r>
              <a:rPr b="0" i="1" lang="it-IT" sz="1200" spc="-1" strike="noStrike">
                <a:solidFill>
                  <a:srgbClr val="595959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95959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95959"/>
                </a:solidFill>
                <a:latin typeface="Tahoma"/>
              </a:rPr>
              <a:t>Ufficio III U.S.R. Campan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sporr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di risorse professionali adegua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relazione agli ambiti disciplinari  cui si riferisce la formazione proposta,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 comprovare mediante curriculum vita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ssicurare l’iscrizione ai corsi da parte del personale della scuola, tramite la piattaforma on-lin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376-972F-4FC2-BEF7-8AEC7984F2D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3780000" y="3062160"/>
            <a:ext cx="1474560" cy="984240"/>
          </a:xfrm>
          <a:prstGeom prst="rect">
            <a:avLst/>
          </a:prstGeom>
          <a:ln w="0">
            <a:noFill/>
          </a:ln>
        </p:spPr>
      </p:pic>
      <p:pic>
        <p:nvPicPr>
          <p:cNvPr id="227" name="Rettangolo 7" descr=""/>
          <p:cNvPicPr/>
          <p:nvPr/>
        </p:nvPicPr>
        <p:blipFill>
          <a:blip r:embed="rId2"/>
          <a:stretch/>
        </p:blipFill>
        <p:spPr>
          <a:xfrm>
            <a:off x="396720" y="36360"/>
            <a:ext cx="8350560" cy="134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Risultati immagini per iscrizione on lin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869000"/>
            <a:ext cx="1424160" cy="73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8920" y="1988640"/>
            <a:ext cx="8713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correre  al monitoraggi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che in itinere e all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valutazione dell’impatto delle azioni formative realizza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consentire il monitoraggio, l’ispezione e la valutazione, da parte dell’Amministrazione, delle azioni di formazione realizz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arantire l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ubblicazione sulla piattaforma onli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 calendario e del programma dettagliato dei cor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1BF-0705-4CED-BE45-2FA039EDB6C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2" descr="Risultati immagini per monitoragg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860640"/>
            <a:ext cx="1368360" cy="790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Risultati immagini per calendar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3040" y="5310360"/>
            <a:ext cx="1326960" cy="998280"/>
          </a:xfrm>
          <a:prstGeom prst="rect">
            <a:avLst/>
          </a:prstGeom>
          <a:ln w="0">
            <a:noFill/>
          </a:ln>
        </p:spPr>
      </p:pic>
      <p:pic>
        <p:nvPicPr>
          <p:cNvPr id="233" name="Rettangolo 7" descr=""/>
          <p:cNvPicPr/>
          <p:nvPr/>
        </p:nvPicPr>
        <p:blipFill>
          <a:blip r:embed="rId5"/>
          <a:stretch/>
        </p:blipFill>
        <p:spPr>
          <a:xfrm>
            <a:off x="396720" y="36360"/>
            <a:ext cx="835056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E29-D7D3-49F9-9D3A-071B3217E7E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2" descr="Formazione, dalla Regione 3,5 milioni di euro per i giovani."/>
          <p:cNvPicPr/>
          <p:nvPr/>
        </p:nvPicPr>
        <p:blipFill>
          <a:blip r:embed="rId1"/>
          <a:stretch/>
        </p:blipFill>
        <p:spPr>
          <a:xfrm>
            <a:off x="1571760" y="1773360"/>
            <a:ext cx="6000480" cy="3990960"/>
          </a:xfrm>
          <a:prstGeom prst="rect">
            <a:avLst/>
          </a:prstGeom>
          <a:ln w="0">
            <a:noFill/>
          </a:ln>
        </p:spPr>
      </p:pic>
      <p:pic>
        <p:nvPicPr>
          <p:cNvPr id="236" name="Rettangolo 5" descr=""/>
          <p:cNvPicPr/>
          <p:nvPr/>
        </p:nvPicPr>
        <p:blipFill>
          <a:blip r:embed="rId2"/>
          <a:stretch/>
        </p:blipFill>
        <p:spPr>
          <a:xfrm>
            <a:off x="396720" y="324000"/>
            <a:ext cx="8350560" cy="85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er l’accredit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8920" y="2420640"/>
            <a:ext cx="3467160" cy="309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ccorre progettare,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 almeno 3 regioni, una iniziativa formativa, di durata pari ad almeno 20 or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da realizzarsi nel corso dell’anno scolastico success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2176-3828-463A-A4F3-B4C7B69216EA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entagono 9"/>
          <p:cNvSpPr/>
          <p:nvPr/>
        </p:nvSpPr>
        <p:spPr>
          <a:xfrm rot="5400000">
            <a:off x="2122920" y="908640"/>
            <a:ext cx="647640" cy="792360"/>
          </a:xfrm>
          <a:custGeom>
            <a:avLst/>
            <a:gdLst>
              <a:gd name="textAreaLeft" fmla="*/ 0 w 647640"/>
              <a:gd name="textAreaRight" fmla="*/ 648000 w 647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3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4103640" cy="5158080"/>
          </a:xfrm>
          <a:prstGeom prst="rect">
            <a:avLst/>
          </a:prstGeom>
          <a:ln w="0">
            <a:noFill/>
          </a:ln>
        </p:spPr>
      </p:pic>
      <p:cxnSp>
        <p:nvCxnSpPr>
          <p:cNvPr id="242" name="Connettore 2 4"/>
          <p:cNvCxnSpPr/>
          <p:nvPr/>
        </p:nvCxnSpPr>
        <p:spPr>
          <a:xfrm>
            <a:off x="3850920" y="2636640"/>
            <a:ext cx="115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Connettore 2 16"/>
          <p:cNvCxnSpPr/>
          <p:nvPr/>
        </p:nvCxnSpPr>
        <p:spPr>
          <a:xfrm>
            <a:off x="3850920" y="3789000"/>
            <a:ext cx="115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4" name="Connettore 2 17"/>
          <p:cNvCxnSpPr/>
          <p:nvPr/>
        </p:nvCxnSpPr>
        <p:spPr>
          <a:xfrm>
            <a:off x="3850920" y="4797000"/>
            <a:ext cx="115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er la qualific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5080" y="2174400"/>
            <a:ext cx="3959280" cy="413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occorre progettare una iniziativa  di form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di durata pari ad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lmeno 20 or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da realizzarsi nel corso dell’anno scolastico successiv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 collaborazione con almeno 3 istituzioni scolastich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singole o in rete, appartenenti ad almeno 3 Reg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D090-BA49-45EB-9A38-8AADED2AA93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entagono 10"/>
          <p:cNvSpPr/>
          <p:nvPr/>
        </p:nvSpPr>
        <p:spPr>
          <a:xfrm rot="5400000">
            <a:off x="6299280" y="1134000"/>
            <a:ext cx="648000" cy="792360"/>
          </a:xfrm>
          <a:custGeom>
            <a:avLst/>
            <a:gdLst>
              <a:gd name="textAreaLeft" fmla="*/ 0 w 648000"/>
              <a:gd name="textAreaRight" fmla="*/ 648000 w 648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2" descr="Risultati immagini per edifici scolastici"/>
          <p:cNvPicPr/>
          <p:nvPr/>
        </p:nvPicPr>
        <p:blipFill>
          <a:blip r:embed="rId1"/>
          <a:stretch/>
        </p:blipFill>
        <p:spPr>
          <a:xfrm>
            <a:off x="1258920" y="20448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Risultati immagini per edifici scolastici"/>
          <p:cNvPicPr/>
          <p:nvPr/>
        </p:nvPicPr>
        <p:blipFill>
          <a:blip r:embed="rId2"/>
          <a:stretch/>
        </p:blipFill>
        <p:spPr>
          <a:xfrm>
            <a:off x="1271520" y="351792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Risultati immagini per edifici scolastici istituto comprensivo"/>
          <p:cNvPicPr/>
          <p:nvPr/>
        </p:nvPicPr>
        <p:blipFill>
          <a:blip r:embed="rId3"/>
          <a:stretch/>
        </p:blipFill>
        <p:spPr>
          <a:xfrm>
            <a:off x="1258920" y="5102280"/>
            <a:ext cx="1380960" cy="1031760"/>
          </a:xfrm>
          <a:prstGeom prst="rect">
            <a:avLst/>
          </a:prstGeom>
          <a:ln w="0">
            <a:noFill/>
          </a:ln>
        </p:spPr>
      </p:pic>
      <p:cxnSp>
        <p:nvCxnSpPr>
          <p:cNvPr id="252" name="Connettore 2 4"/>
          <p:cNvCxnSpPr/>
          <p:nvPr/>
        </p:nvCxnSpPr>
        <p:spPr>
          <a:xfrm flipH="1">
            <a:off x="3203280" y="2349000"/>
            <a:ext cx="115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3" name="Connettore 2 17"/>
          <p:cNvCxnSpPr/>
          <p:nvPr/>
        </p:nvCxnSpPr>
        <p:spPr>
          <a:xfrm flipH="1">
            <a:off x="3203280" y="4076280"/>
            <a:ext cx="115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4" name="Connettore 2 18"/>
          <p:cNvCxnSpPr/>
          <p:nvPr/>
        </p:nvCxnSpPr>
        <p:spPr>
          <a:xfrm flipH="1">
            <a:off x="3203280" y="5660640"/>
            <a:ext cx="115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682200"/>
            <a:ext cx="71992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e iniziative di formazione da realizzare vanno riferite a  non più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inque ambit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temat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ogetto deve essere completo delle seguenti voc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D67C-D7E0-467C-87FE-A61DAAA46543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3348000" y="2479680"/>
            <a:ext cx="5291280" cy="3973680"/>
          </a:xfrm>
          <a:prstGeom prst="rect">
            <a:avLst/>
          </a:prstGeom>
          <a:ln w="0">
            <a:noFill/>
          </a:ln>
        </p:spPr>
      </p:pic>
      <p:sp>
        <p:nvSpPr>
          <p:cNvPr id="258" name="Rettangolo arrotondato 14"/>
          <p:cNvSpPr/>
          <p:nvPr/>
        </p:nvSpPr>
        <p:spPr>
          <a:xfrm>
            <a:off x="5148360" y="2637000"/>
            <a:ext cx="244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ttangolo arrotondato 15"/>
          <p:cNvSpPr/>
          <p:nvPr/>
        </p:nvSpPr>
        <p:spPr>
          <a:xfrm>
            <a:off x="5148360" y="3141720"/>
            <a:ext cx="244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ttangolo arrotondato 16"/>
          <p:cNvSpPr/>
          <p:nvPr/>
        </p:nvSpPr>
        <p:spPr>
          <a:xfrm>
            <a:off x="5148360" y="3645000"/>
            <a:ext cx="2448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Nomi dei relat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ttangolo arrotondato 17"/>
          <p:cNvSpPr/>
          <p:nvPr/>
        </p:nvSpPr>
        <p:spPr>
          <a:xfrm>
            <a:off x="5148360" y="4221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Destinatar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ttangolo arrotondato 18"/>
          <p:cNvSpPr/>
          <p:nvPr/>
        </p:nvSpPr>
        <p:spPr>
          <a:xfrm>
            <a:off x="5219640" y="486900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Materi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ttangolo arrotondato 19"/>
          <p:cNvSpPr/>
          <p:nvPr/>
        </p:nvSpPr>
        <p:spPr>
          <a:xfrm>
            <a:off x="5219640" y="5445000"/>
            <a:ext cx="237672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Tecnolog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ttangolo arrotondato 20"/>
          <p:cNvSpPr/>
          <p:nvPr/>
        </p:nvSpPr>
        <p:spPr>
          <a:xfrm>
            <a:off x="5219640" y="6021360"/>
            <a:ext cx="237672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Calibri"/>
              </a:rPr>
              <a:t>Tipologie di verific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91920" y="1600200"/>
            <a:ext cx="7994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direttiva n°170 del 2016 ha specializzato la proposta formativa ridefinendo le aree di applicazione e identifican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13 Ambiti Specifici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5 Ambiti Trasvers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CE4-6B63-47A3-8632-AB95CD5E396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Rettangolo 4" descr=""/>
          <p:cNvPicPr/>
          <p:nvPr/>
        </p:nvPicPr>
        <p:blipFill>
          <a:blip r:embed="rId1"/>
          <a:stretch/>
        </p:blipFill>
        <p:spPr>
          <a:xfrm>
            <a:off x="1036800" y="-133200"/>
            <a:ext cx="6632280" cy="1071360"/>
          </a:xfrm>
          <a:prstGeom prst="rect">
            <a:avLst/>
          </a:prstGeom>
          <a:ln w="0">
            <a:noFill/>
          </a:ln>
        </p:spPr>
      </p:pic>
      <p:sp>
        <p:nvSpPr>
          <p:cNvPr id="268" name="Freccia circolare a destra 5"/>
          <p:cNvSpPr/>
          <p:nvPr/>
        </p:nvSpPr>
        <p:spPr>
          <a:xfrm>
            <a:off x="611280" y="3573360"/>
            <a:ext cx="288720" cy="576360"/>
          </a:xfrm>
          <a:custGeom>
            <a:avLst/>
            <a:gdLst>
              <a:gd name="textAreaLeft" fmla="*/ 38520 w 288720"/>
              <a:gd name="textAreaRight" fmla="*/ 250200 w 288720"/>
              <a:gd name="textAreaTop" fmla="*/ 117000 h 576360"/>
              <a:gd name="textAreaBottom" fmla="*/ 4233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0" stAng="-5400000" swAng="-5400000"/>
                <a:lnTo>
                  <a:pt x="0" y="11477"/>
                </a:lnTo>
                <a:arcTo wR="21600" hR="8770" stAng="10800000" swAng="-3452704"/>
                <a:lnTo>
                  <a:pt x="16200" y="21322"/>
                </a:lnTo>
                <a:lnTo>
                  <a:pt x="21600" y="18893"/>
                </a:lnTo>
                <a:lnTo>
                  <a:pt x="16200" y="15907"/>
                </a:lnTo>
                <a:lnTo>
                  <a:pt x="16200" y="17261"/>
                </a:lnTo>
                <a:arcTo wR="21600" hR="8770" stAng="7347296" swAng="3234967"/>
                <a:lnTo>
                  <a:pt x="259" y="10123"/>
                </a:lnTo>
                <a:arcTo wR="21600" hR="8770" stAng="-10582263" swAng="5182263"/>
                <a:close/>
              </a:path>
              <a:path fill="darkenLess" w="21600" h="21600">
                <a:moveTo>
                  <a:pt x="21600" y="0"/>
                </a:moveTo>
                <a:arcTo wR="21600" hR="8770" stAng="-5400000" swAng="-5400000"/>
                <a:lnTo>
                  <a:pt x="0" y="8770"/>
                </a:lnTo>
                <a:arcTo wR="21600" hR="8770" stAng="10800000" swAng="-217737"/>
                <a:lnTo>
                  <a:pt x="259" y="10123"/>
                </a:lnTo>
                <a:arcTo wR="21600" hR="8770" stAng="-10582263" swAng="51822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Freccia circolare a destra 6"/>
          <p:cNvSpPr/>
          <p:nvPr/>
        </p:nvSpPr>
        <p:spPr>
          <a:xfrm>
            <a:off x="826920" y="4797360"/>
            <a:ext cx="289080" cy="576360"/>
          </a:xfrm>
          <a:custGeom>
            <a:avLst/>
            <a:gdLst>
              <a:gd name="textAreaLeft" fmla="*/ 38520 w 289080"/>
              <a:gd name="textAreaRight" fmla="*/ 250560 w 289080"/>
              <a:gd name="textAreaTop" fmla="*/ 117000 h 576360"/>
              <a:gd name="textAreaBottom" fmla="*/ 4233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0" stAng="-5400000" swAng="-5400000"/>
                <a:lnTo>
                  <a:pt x="0" y="11477"/>
                </a:lnTo>
                <a:arcTo wR="21600" hR="8770" stAng="10800000" swAng="-3452704"/>
                <a:lnTo>
                  <a:pt x="16200" y="21322"/>
                </a:lnTo>
                <a:lnTo>
                  <a:pt x="21600" y="18893"/>
                </a:lnTo>
                <a:lnTo>
                  <a:pt x="16200" y="15907"/>
                </a:lnTo>
                <a:lnTo>
                  <a:pt x="16200" y="17261"/>
                </a:lnTo>
                <a:arcTo wR="21600" hR="8770" stAng="7347296" swAng="3234967"/>
                <a:lnTo>
                  <a:pt x="259" y="10123"/>
                </a:lnTo>
                <a:arcTo wR="21600" hR="8770" stAng="-10582263" swAng="5182263"/>
                <a:close/>
              </a:path>
              <a:path fill="darkenLess" w="21600" h="21600">
                <a:moveTo>
                  <a:pt x="21600" y="0"/>
                </a:moveTo>
                <a:arcTo wR="21600" hR="8770" stAng="-5400000" swAng="-5400000"/>
                <a:lnTo>
                  <a:pt x="0" y="8770"/>
                </a:lnTo>
                <a:arcTo wR="21600" hR="8770" stAng="10800000" swAng="-217737"/>
                <a:lnTo>
                  <a:pt x="259" y="10123"/>
                </a:lnTo>
                <a:arcTo wR="21600" hR="8770" stAng="-10582263" swAng="51822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0920" y="765000"/>
            <a:ext cx="864216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ducazione al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cultura econom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Orientament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Dispers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scolas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Bisog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dividuali e sociali dello stud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blemi del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valut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individuale e di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lternanza scuola-lavo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Inclus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colastica e soc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alogo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intercultur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e interreligio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Gestione della class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problematiche relaz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oscenza e rispetto del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realtà naturale e ambien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utela del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salute e sicurezz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luoghi di lavo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viluppo del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cultura digit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d educazione ai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Cittadinanza atti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lega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dattica delle singol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discipli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previste dagli ordiname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Rettangolo 4" descr=""/>
          <p:cNvPicPr/>
          <p:nvPr/>
        </p:nvPicPr>
        <p:blipFill>
          <a:blip r:embed="rId1"/>
          <a:stretch/>
        </p:blipFill>
        <p:spPr>
          <a:xfrm>
            <a:off x="1036800" y="-133200"/>
            <a:ext cx="6632280" cy="107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50920" y="1628280"/>
            <a:ext cx="86421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idattica e metodolo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etodologie e attività laborator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novazione didattica e didattica digi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dattica per competenze e competenze trasvers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apprendime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Rettangolo 4" descr=""/>
          <p:cNvPicPr/>
          <p:nvPr/>
        </p:nvPicPr>
        <p:blipFill>
          <a:blip r:embed="rId1"/>
          <a:stretch/>
        </p:blipFill>
        <p:spPr>
          <a:xfrm>
            <a:off x="1036800" y="-133200"/>
            <a:ext cx="6632280" cy="1071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2104920"/>
            <a:ext cx="3313080" cy="283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ntr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31 gennaio di ogni ann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itato Tecnico Naz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rmula per ogni richiesta un motivato parere di ammissibilità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bbligatorio ma non vincola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B1D-D1B2-484F-8FA1-1FA5206D615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Rettangolo 4" descr=""/>
          <p:cNvPicPr/>
          <p:nvPr/>
        </p:nvPicPr>
        <p:blipFill>
          <a:blip r:embed="rId1"/>
          <a:stretch/>
        </p:blipFill>
        <p:spPr>
          <a:xfrm>
            <a:off x="396720" y="36360"/>
            <a:ext cx="8350560" cy="858960"/>
          </a:xfrm>
          <a:prstGeom prst="rect">
            <a:avLst/>
          </a:prstGeom>
          <a:ln w="0">
            <a:noFill/>
          </a:ln>
        </p:spPr>
      </p:pic>
      <p:sp>
        <p:nvSpPr>
          <p:cNvPr id="277" name="Rettangolo 5"/>
          <p:cNvSpPr/>
          <p:nvPr/>
        </p:nvSpPr>
        <p:spPr>
          <a:xfrm>
            <a:off x="5238720" y="2635200"/>
            <a:ext cx="3294000" cy="3448080"/>
          </a:xfrm>
          <a:prstGeom prst="rect">
            <a:avLst/>
          </a:prstGeom>
          <a:solidFill>
            <a:srgbClr val="99cc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lla base del parere favorevole del Comit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ecnico Nazionale,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rettore Gener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il personale scolastico predispone specifici interventi di accertament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ecide in via definitiv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mer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’iscrizione del richiedente negli elench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8" descr="Risultati immagini per ministero istruzione"/>
          <p:cNvPicPr/>
          <p:nvPr/>
        </p:nvPicPr>
        <p:blipFill>
          <a:blip r:embed="rId2"/>
          <a:stretch/>
        </p:blipFill>
        <p:spPr>
          <a:xfrm>
            <a:off x="3924360" y="981000"/>
            <a:ext cx="18716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30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Direttiva Ministeriale n° 170 /2016,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la luce delle nuove disposizioni contenute nella Legge n. 107/2015, sostituisce la precedente Direttiva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.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90/2003, puntando alla definizione di un unico "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ecosistema digita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" in cui sarà possibile far incontrare l'offerta di formazione dei soggetti che erogano la formazione con la domanda di formazione del personale della scuol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E612-1770-463D-B6FF-D5AD6AE2521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Rettangolo 9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6632640" cy="1072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C9D-78FC-40BF-93AD-F0E58F65137A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2" descr="monitoraggio protest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Rettangolo 5" descr=""/>
          <p:cNvPicPr/>
          <p:nvPr/>
        </p:nvPicPr>
        <p:blipFill>
          <a:blip r:embed="rId3"/>
          <a:stretch/>
        </p:blipFill>
        <p:spPr>
          <a:xfrm>
            <a:off x="396720" y="36360"/>
            <a:ext cx="8350560" cy="858960"/>
          </a:xfrm>
          <a:prstGeom prst="rect">
            <a:avLst/>
          </a:prstGeom>
          <a:ln w="0">
            <a:noFill/>
          </a:ln>
        </p:spPr>
      </p:pic>
      <p:sp>
        <p:nvSpPr>
          <p:cNvPr id="283" name="Segnaposto contenuto 2"/>
          <p:cNvSpPr/>
          <p:nvPr/>
        </p:nvSpPr>
        <p:spPr>
          <a:xfrm>
            <a:off x="609480" y="1752480"/>
            <a:ext cx="8229600" cy="2828880"/>
          </a:xfrm>
          <a:prstGeom prst="rect">
            <a:avLst/>
          </a:prstGeom>
          <a:solidFill>
            <a:srgbClr val="99c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  <a:ea typeface="Arial"/>
              </a:rPr>
              <a:t>I soggetti accreditati o qualificati sono periodicamente sottoposti ad attività di monitoraggio, al fine di accertare il mantenimento dei requisiti e la costante qualità delle iniziative di formazi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5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Direttiva Ministeriale n° 170 /2016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sciplina le modalità d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ccredit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Qualificazi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Riconosci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i singoli percorsi formativi organizzati da soggetti non accreditati/qualificati,  che offrono formazione per lo sviluppo delle competenze de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ersonale della scuol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certificando ed assicurando la qualità delle inizia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467D-8FCD-45B8-9512-077CD9090C5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ccia a destra 4"/>
          <p:cNvSpPr/>
          <p:nvPr/>
        </p:nvSpPr>
        <p:spPr>
          <a:xfrm>
            <a:off x="250920" y="249228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reccia a destra 5"/>
          <p:cNvSpPr/>
          <p:nvPr/>
        </p:nvSpPr>
        <p:spPr>
          <a:xfrm>
            <a:off x="223920" y="299736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reccia a destra 6"/>
          <p:cNvSpPr/>
          <p:nvPr/>
        </p:nvSpPr>
        <p:spPr>
          <a:xfrm>
            <a:off x="223920" y="3500280"/>
            <a:ext cx="360360" cy="433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Rettangolo 9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6632640" cy="107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s://encrypted-tbn0.gstatic.com/images?q=tbn:ANd9GcRA_0TEfrckYZzNfsuRvuJCIVCoSFvtDEf6d_tTxNhKz5rRyAZ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72360" y="-27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8877-178D-4246-8F83-BC1F9373702A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Rettangolo 9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6632640" cy="1072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www.macrolibrarsi.it/img/tinyMCE_upload/obiettivo-3.jpg"/>
          <p:cNvPicPr/>
          <p:nvPr/>
        </p:nvPicPr>
        <p:blipFill>
          <a:blip r:embed="rId2"/>
          <a:stretch/>
        </p:blipFill>
        <p:spPr>
          <a:xfrm>
            <a:off x="7238880" y="-28440"/>
            <a:ext cx="1905120" cy="1743120"/>
          </a:xfrm>
          <a:prstGeom prst="rect">
            <a:avLst/>
          </a:prstGeom>
          <a:ln w="0">
            <a:noFill/>
          </a:ln>
        </p:spPr>
      </p:pic>
      <p:sp>
        <p:nvSpPr>
          <p:cNvPr id="146" name="Rettangolo arrotondato 1"/>
          <p:cNvSpPr/>
          <p:nvPr/>
        </p:nvSpPr>
        <p:spPr>
          <a:xfrm>
            <a:off x="1332000" y="1557360"/>
            <a:ext cx="54007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Semplificare l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ttangolo arrotondato 11"/>
          <p:cNvSpPr/>
          <p:nvPr/>
        </p:nvSpPr>
        <p:spPr>
          <a:xfrm>
            <a:off x="1979640" y="3141720"/>
            <a:ext cx="54007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Introdurre criteri di sel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oggettivi e traspar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ttangolo arrotondato 13"/>
          <p:cNvSpPr/>
          <p:nvPr/>
        </p:nvSpPr>
        <p:spPr>
          <a:xfrm>
            <a:off x="2268360" y="4724280"/>
            <a:ext cx="539928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Facilitare la ricerca e l’iscrizione ai percorsi form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ccia a destra 7"/>
          <p:cNvSpPr/>
          <p:nvPr/>
        </p:nvSpPr>
        <p:spPr>
          <a:xfrm>
            <a:off x="971640" y="1714680"/>
            <a:ext cx="647640" cy="777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ccia a destra 14"/>
          <p:cNvSpPr/>
          <p:nvPr/>
        </p:nvSpPr>
        <p:spPr>
          <a:xfrm>
            <a:off x="1619280" y="3219480"/>
            <a:ext cx="649080" cy="779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ccia a destra 15"/>
          <p:cNvSpPr/>
          <p:nvPr/>
        </p:nvSpPr>
        <p:spPr>
          <a:xfrm>
            <a:off x="1908000" y="4809960"/>
            <a:ext cx="648000" cy="779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7640" y="1484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due provvedimenti afferiscono a soggetti giuridici diversi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accreditamento  è una modalità di riconoscimento de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oggetti esterni al mondo della scuol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che offrono formazione al personale della scuola sul territorio naziona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qualificazione è una modalità di riconoscimento di 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ssociazioni professionali e  disciplinar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llegate a comunità scientifiche per la formazione del personale scolastico sul territorio nazion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A5B-71C3-450A-A4EC-E7B7B2C2E71C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Rettangolo 9" descr=""/>
          <p:cNvPicPr/>
          <p:nvPr/>
        </p:nvPicPr>
        <p:blipFill>
          <a:blip r:embed="rId1"/>
          <a:stretch/>
        </p:blipFill>
        <p:spPr>
          <a:xfrm>
            <a:off x="609480" y="96840"/>
            <a:ext cx="813780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3520" y="15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riconoscimento di singoli corsi di formazione rappresenta un'ulteriore modalità per offrire formazione per il personale della scuola da parte di qualsiasi Soggetto, né accreditato né qualifica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riconoscimento dei corsi può essere a caratter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naziona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oppure a caratter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regiona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13B-46B9-4A1D-A822-7029C3FFC59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Rettangolo 9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7564680" cy="10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Risultati immagini per regione camp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51600" y="4960800"/>
            <a:ext cx="1238040" cy="12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Risultati immagini per italia in bl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797360"/>
            <a:ext cx="962280" cy="1152720"/>
          </a:xfrm>
          <a:prstGeom prst="rect">
            <a:avLst/>
          </a:prstGeom>
          <a:ln w="0">
            <a:noFill/>
          </a:ln>
        </p:spPr>
      </p:pic>
      <p:sp>
        <p:nvSpPr>
          <p:cNvPr id="160" name="Rettangolo arrotondato 1"/>
          <p:cNvSpPr/>
          <p:nvPr/>
        </p:nvSpPr>
        <p:spPr>
          <a:xfrm>
            <a:off x="1692360" y="4941720"/>
            <a:ext cx="302400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richieste devono essere presentate osservando l’apposita procedura prevista dalla piattaforma on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Minister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ttangolo arrotondato 7"/>
          <p:cNvSpPr/>
          <p:nvPr/>
        </p:nvSpPr>
        <p:spPr>
          <a:xfrm>
            <a:off x="6710400" y="4270320"/>
            <a:ext cx="2232000" cy="211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richieste devono essere inoltrate con le modalità definite da ciascun Uff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colastico Regionale competente per territor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ccia in giù 2"/>
          <p:cNvSpPr/>
          <p:nvPr/>
        </p:nvSpPr>
        <p:spPr>
          <a:xfrm>
            <a:off x="1812960" y="4270320"/>
            <a:ext cx="480960" cy="453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ccia in giù 10"/>
          <p:cNvSpPr/>
          <p:nvPr/>
        </p:nvSpPr>
        <p:spPr>
          <a:xfrm>
            <a:off x="6084720" y="4246560"/>
            <a:ext cx="481320" cy="45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1557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utte le iniziative di formazione promosse e realizzate da un Ente che abbia ottenuto l’accreditamento o la qualificazione accreditato/qualificato sono riconosciute dal M.I.U.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nte, pertanto, non deve più richiedere l’autorizzazione del riconoscimento del singolo corso o della singola attività formati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D4C-256A-419C-8F31-30F08AE83B9A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Rettangolo 9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892512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 evidenzia che la Direttiva n. 170/2016 indica i soggetti di per sé qualificati, che non necessitano quindi né dell’iscrizione in piattaforma né di ulteriori proced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UNIVERSITA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STITUZIONI MUSE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STITUTI DI ALTA FORMAZIONE ARTISTICA, MUSICALE E COREU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STITUZIONI SCOLASTI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 sistema nazionale di istruzione, singole o in re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D2D-DFE9-431D-AE45-AF9CEC7FC0DD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Rettangolo 4" descr=""/>
          <p:cNvPicPr/>
          <p:nvPr/>
        </p:nvPicPr>
        <p:blipFill>
          <a:blip r:embed="rId1"/>
          <a:stretch/>
        </p:blipFill>
        <p:spPr>
          <a:xfrm>
            <a:off x="609480" y="396720"/>
            <a:ext cx="8137800" cy="96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Risultati immagini per universit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2096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Risultati immagini per templ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4600" y="3216240"/>
            <a:ext cx="951120" cy="71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Risultati immagini per arte e music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28040" y="3689280"/>
            <a:ext cx="890640" cy="892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Risultati immagini per edifici scolastici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86600" y="5805360"/>
            <a:ext cx="968400" cy="6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Risultati immagini per edifici scolastici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43880" y="539100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25:47Z</dcterms:created>
  <dc:creator>utente</dc:creator>
  <dc:description/>
  <dc:language>en-US</dc:language>
  <cp:lastModifiedBy>Administrator</cp:lastModifiedBy>
  <cp:lastPrinted>2016-08-18T11:05:08Z</cp:lastPrinted>
  <dcterms:modified xsi:type="dcterms:W3CDTF">2016-09-05T13:46:40Z</dcterms:modified>
  <cp:revision>220</cp:revision>
  <dc:subject/>
  <dc:title>Diapositiva 1</dc:title>
</cp:coreProperties>
</file>